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F13A-6111-4690-856F-208D7D49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AC9-3FD6-48D1-A4B0-C896D819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C178-0BFD-4941-BC78-62EB0F94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2A2F-6251-4EB1-93B2-8828BFC7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4F5-6045-4585-9D55-2B6917B0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1C32-9B6D-42E3-BEA5-C51FA96D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BE39-31F6-416F-B725-A4456841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590-4FDD-44C3-8E57-512C258D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AA7-A085-4160-932B-72286F00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7362-BAF2-4114-AC39-D7D83465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12A-B3B0-417B-A1C0-5D5ECD7F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F52D-94FB-4E73-A4A7-48E958F5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DEE5-F711-4053-9294-3C4754BAD2E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3629160"/>
            <a:ext cx="2666880" cy="254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786200" y="3762360"/>
            <a:ext cx="29862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IVIDING  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Ramadan is the ninth </a:t>
            </a: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mo- </a:t>
            </a:r>
            <a:br>
              <a:rPr sz="4000"/>
            </a:b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nth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in Islamic calendar. 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All adult must fast </a:t>
            </a: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Ram-</a:t>
            </a:r>
            <a:br>
              <a:rPr sz="4000"/>
            </a:b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adan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They are not allowed to eat or drink between dawn and sunset. Fasting strengthens a person by increasing his self-contr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5520" y="457200"/>
            <a:ext cx="26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madan is the ninth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mon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Islamic calenda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adult must fast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amadan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not allowed to eat or drink between dawn and sunset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sting strengthens a person by increasing his self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5520" y="457200"/>
            <a:ext cx="26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o not divide 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not necess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difficul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does not help you to r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4333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ma-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rmac-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teri-n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81480" y="91404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-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-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-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e-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4333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ma-nities </a:t>
            </a:r>
            <a:r>
              <a:rPr b="0" lang="en-US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rmac-ology </a:t>
            </a:r>
            <a:r>
              <a:rPr b="0" lang="en-US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teri-nary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81480" y="91404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-ces </a:t>
            </a:r>
            <a:r>
              <a:rPr b="0" lang="en-US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-ety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-ics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e-ty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abi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iversit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jects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mp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inah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8:11:20Z</dcterms:created>
  <dc:creator>Bafayad</dc:creator>
  <dc:description/>
  <dc:language>en-US</dc:language>
  <cp:lastModifiedBy>معمل الانجليزي</cp:lastModifiedBy>
  <dcterms:modified xsi:type="dcterms:W3CDTF">2005-03-19T08:37:29Z</dcterms:modified>
  <cp:revision>11</cp:revision>
  <dc:subject/>
  <dc:title>Ramadan is the ninth mo-  nth in Islamic calendar.  All adult must fast Ram- adan. They are not allowed to eat or drink between dawn and sunset. Fasting strengthens a person by increasing his self-control.</dc:title>
</cp:coreProperties>
</file>